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883-08FD-4BAF-AEE9-926F9B56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84C-9517-42E0-86F8-FB87144B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869-137C-4963-A562-59D631AF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BB9-C568-4CE8-939E-6C09A050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A9D-B1B6-406B-8C02-B6569C16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EE1-6DA1-40C2-89B3-9AFB0119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A21-6B7A-4F0A-90BE-6080E4B7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DBD9-3F11-4CEF-B5F9-0CC57769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714-39BD-4C72-9210-54800658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874-E22D-4C5F-9050-4E6383C6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00A-ACC4-42A2-9B94-09600BD0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61B-CD23-481E-A454-4856C9C6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53D4-D832-4E66-BB2A-BA5402AC4DC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260280" y="1125360"/>
            <a:ext cx="8621640" cy="532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4"/>
          <a:stretch/>
        </p:blipFill>
        <p:spPr>
          <a:xfrm>
            <a:off x="2944800" y="3503520"/>
            <a:ext cx="2209680" cy="66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5"/>
          <a:stretch/>
        </p:blipFill>
        <p:spPr>
          <a:xfrm>
            <a:off x="239760" y="4437000"/>
            <a:ext cx="492444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6"/>
          <a:stretch/>
        </p:blipFill>
        <p:spPr>
          <a:xfrm>
            <a:off x="239760" y="5373720"/>
            <a:ext cx="4914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468360" y="1549440"/>
            <a:ext cx="835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57434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33560" y="981000"/>
            <a:ext cx="6970680" cy="62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2936880" y="2662200"/>
            <a:ext cx="5956200" cy="54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434880" y="4653000"/>
            <a:ext cx="849492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3141720"/>
            <a:ext cx="856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ب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 الصالح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يمان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701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32"/>
          <a:stretch/>
        </p:blipFill>
        <p:spPr>
          <a:xfrm>
            <a:off x="324000" y="1484280"/>
            <a:ext cx="85341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565520"/>
            <a:ext cx="34671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مربع نص 1"/>
          <p:cNvSpPr/>
          <p:nvPr/>
        </p:nvSpPr>
        <p:spPr>
          <a:xfrm>
            <a:off x="250920" y="1844640"/>
            <a:ext cx="864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أمر الله تعالى بمكارم الأخلاق ونهى عن كل قبيح ومنها في هذه الآيات تحريم الأيمان الكاذ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05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66680"/>
            <a:ext cx="87854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24000" y="2481120"/>
            <a:ext cx="8496000" cy="411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324000" y="969840"/>
            <a:ext cx="8662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ن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604360" y="1773360"/>
            <a:ext cx="3823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خداع الناس بالأيمان الكاذبة وغير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أيمان الكاذ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أيمان الكاذب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د عن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يمان الكاذبة تسبب الصد عن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كافر إذا رأى أن المؤمنين قد عاهده ثم غدر به لم يبق له وثوق بالدين وقد يصده ذلك عن الدخول في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فريط في دين الله عز وجل لمصالح دنيوية زائ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شر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عظيم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 الإقسام به وعدم الحن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له تعالى للصابرين المتمسكين بدينهم وعهده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زاء 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1"/>
          <p:cNvSpPr/>
          <p:nvPr/>
        </p:nvSpPr>
        <p:spPr>
          <a:xfrm>
            <a:off x="250920" y="1844640"/>
            <a:ext cx="8629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من أسباب الصد عن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1585800" y="981000"/>
            <a:ext cx="72946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5T21:02:10Z</dcterms:modified>
  <cp:revision>1924</cp:revision>
  <dc:subject/>
  <dc:title>عرض تقديمي في PowerPoint</dc:title>
</cp:coreProperties>
</file>